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756-5EC5-4232-8A99-F5125BC1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9A4-458C-4C6E-89E8-B8B09B7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F8C-A964-4FF3-830A-5483D2E8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A62-D4BD-4159-85C7-08E4E3D1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B68-D943-4DF3-9351-01DE2A8F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41A-8FFE-472C-992E-9190193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6D6-085F-46C1-BB41-C14C578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FB7-5C6D-4BB8-BA7D-4FA7A2B9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BCE-AD9B-496C-9D90-2E03675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73E-395D-4439-9D64-3545B69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4C8-ED5E-4E78-9AA6-4870592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791-1B18-4F16-9ADE-B4B7794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DE3-9449-4D82-AB95-80C7C9180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0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60480" y="285840"/>
            <a:ext cx="9264960" cy="4030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24000" y="506556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Шапарь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 5 г.Туап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66840" y="620640"/>
            <a:ext cx="841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то у больной кошки сид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 как лечиться он говори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то болен – он капли предложит прин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ому, кто здоров – разрешит по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C:\Documents and Settings\Admin\Рабочий стол\ветеринар.jpg"/>
          <p:cNvPicPr/>
          <p:nvPr/>
        </p:nvPicPr>
        <p:blipFill>
          <a:blip r:embed="rId2"/>
          <a:stretch/>
        </p:blipFill>
        <p:spPr>
          <a:xfrm>
            <a:off x="2124000" y="292896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482120" y="620640"/>
            <a:ext cx="659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Ему нужны тески и клещ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Ключ, напильник, и ножов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А всего нужней сноров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Documents and Settings\Admin\Рабочий стол\слесарь.jpg"/>
          <p:cNvPicPr/>
          <p:nvPr/>
        </p:nvPicPr>
        <p:blipFill>
          <a:blip r:embed="rId2"/>
          <a:stretch/>
        </p:blipFill>
        <p:spPr>
          <a:xfrm>
            <a:off x="2771640" y="2563920"/>
            <a:ext cx="302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979640" y="4046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Скажи, кто так вк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Готовит щи капус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Пахучие котл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Салаты винегр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Все завтраки, обе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Admin\Рабочий стол\повар.jpg"/>
          <p:cNvPicPr/>
          <p:nvPr/>
        </p:nvPicPr>
        <p:blipFill>
          <a:blip r:embed="rId2"/>
          <a:stretch/>
        </p:blipFill>
        <p:spPr>
          <a:xfrm>
            <a:off x="2268360" y="2959200"/>
            <a:ext cx="32864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908000" y="47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Строит дом карандаш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На листке бума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Нужно все нарис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Вычислить, про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Лестницы и дв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tretch/>
        </p:blipFill>
        <p:spPr>
          <a:xfrm>
            <a:off x="2111400" y="3103560"/>
            <a:ext cx="43686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18:58:38Z</dcterms:created>
  <dc:creator>Admin</dc:creator>
  <dc:description/>
  <dc:language>en-US</dc:language>
  <cp:lastModifiedBy>Admin</cp:lastModifiedBy>
  <dcterms:modified xsi:type="dcterms:W3CDTF">2014-01-25T09:53:52Z</dcterms:modified>
  <cp:revision>89</cp:revision>
  <dc:subject/>
  <dc:title>Слайд 1</dc:title>
</cp:coreProperties>
</file>