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4.gif" ContentType="image/gif"/>
  <Override PartName="/ppt/media/image9.gif" ContentType="image/gif"/>
  <Override PartName="/ppt/media/image2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DACE0-42E1-465F-AA2D-43BF33274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76520" y="143280"/>
            <a:ext cx="72388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971800" y="1828440"/>
            <a:ext cx="45720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971800" y="4057200"/>
            <a:ext cx="45720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DE865-00E6-481C-86DB-C88D482C3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76520" y="143280"/>
            <a:ext cx="72388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971800" y="1828440"/>
            <a:ext cx="2230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14680" y="1828440"/>
            <a:ext cx="2230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971800" y="4057200"/>
            <a:ext cx="2230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14680" y="4057200"/>
            <a:ext cx="2230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389C5-721E-4377-9661-F4971ED61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76520" y="143280"/>
            <a:ext cx="72388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971800" y="1828440"/>
            <a:ext cx="14720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18000" y="1828440"/>
            <a:ext cx="14720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63840" y="1828440"/>
            <a:ext cx="14720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971800" y="4057200"/>
            <a:ext cx="14720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518000" y="4057200"/>
            <a:ext cx="14720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63840" y="4057200"/>
            <a:ext cx="14720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EAF12-D4C3-4CA6-95EF-EF1241151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C3C13-DD62-479F-B476-88BE57764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676520" y="143280"/>
            <a:ext cx="72388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971800" y="1828440"/>
            <a:ext cx="45720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DE301-4630-41EA-8995-ECEB2E556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676520" y="143280"/>
            <a:ext cx="72388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971800" y="1828440"/>
            <a:ext cx="4572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EE737-9C59-41AE-8247-8AED572C3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520" y="143280"/>
            <a:ext cx="72388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971800" y="1828440"/>
            <a:ext cx="2230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314680" y="1828440"/>
            <a:ext cx="2230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C87CB-AD28-43E7-A139-21B2170B3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76520" y="143280"/>
            <a:ext cx="72388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A17B0-BF4F-47D1-B5EA-1AE999051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676520" y="151920"/>
            <a:ext cx="72388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3215C-5716-4DDA-8997-407D416EA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76520" y="143280"/>
            <a:ext cx="72388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971800" y="1828440"/>
            <a:ext cx="2230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314680" y="1828440"/>
            <a:ext cx="2230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971800" y="4057200"/>
            <a:ext cx="2230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2A6A6-A2E0-47B3-AD35-46C61D632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76520" y="143280"/>
            <a:ext cx="72388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971800" y="1828440"/>
            <a:ext cx="45720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C4AE2-F5FE-4052-9460-C8737ED94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676520" y="143280"/>
            <a:ext cx="72388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971800" y="1828440"/>
            <a:ext cx="2230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14680" y="1828440"/>
            <a:ext cx="2230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14680" y="4057200"/>
            <a:ext cx="2230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B817E-03C9-4D1B-8A29-B1F759072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676520" y="143280"/>
            <a:ext cx="72388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971800" y="1828440"/>
            <a:ext cx="2230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14680" y="1828440"/>
            <a:ext cx="2230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971800" y="4057200"/>
            <a:ext cx="45720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7FB95-911E-4345-9E9E-F85472F60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676520" y="143280"/>
            <a:ext cx="72388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971800" y="1828440"/>
            <a:ext cx="45720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971800" y="4057200"/>
            <a:ext cx="45720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E2AF2-7348-47A5-9308-6F99EAF4C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76520" y="143280"/>
            <a:ext cx="72388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971800" y="1828440"/>
            <a:ext cx="2230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14680" y="1828440"/>
            <a:ext cx="2230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971800" y="4057200"/>
            <a:ext cx="2230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314680" y="4057200"/>
            <a:ext cx="2230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95E7B-75D3-45A8-B710-980A8EE7B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676520" y="143280"/>
            <a:ext cx="72388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971800" y="1828440"/>
            <a:ext cx="14720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18000" y="1828440"/>
            <a:ext cx="14720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63840" y="1828440"/>
            <a:ext cx="14720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971800" y="4057200"/>
            <a:ext cx="14720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518000" y="4057200"/>
            <a:ext cx="14720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63840" y="4057200"/>
            <a:ext cx="14720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15E93-5291-44AC-8F37-E105CD3B5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76520" y="143280"/>
            <a:ext cx="72388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971800" y="1828440"/>
            <a:ext cx="4572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2D13C-D9FB-410D-AB14-D71C47FCE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76520" y="143280"/>
            <a:ext cx="72388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971800" y="1828440"/>
            <a:ext cx="2230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14680" y="1828440"/>
            <a:ext cx="2230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917F1-66F1-4EFD-8BCF-2A1BA555E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76520" y="143280"/>
            <a:ext cx="72388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EB8B1-0DE9-46EC-B294-0E0076FE0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76520" y="151920"/>
            <a:ext cx="72388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4B4B4-44FE-4459-BE6E-6E7735F70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76520" y="143280"/>
            <a:ext cx="72388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971800" y="1828440"/>
            <a:ext cx="2230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14680" y="1828440"/>
            <a:ext cx="2230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971800" y="4057200"/>
            <a:ext cx="2230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4B3B8-9BF4-4A01-8C2A-4772853B3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76520" y="143280"/>
            <a:ext cx="72388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971800" y="1828440"/>
            <a:ext cx="2230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14680" y="1828440"/>
            <a:ext cx="2230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14680" y="4057200"/>
            <a:ext cx="2230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53E77-742F-43CE-A977-B00ABEA09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76520" y="143280"/>
            <a:ext cx="72388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971800" y="1828440"/>
            <a:ext cx="2230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14680" y="1828440"/>
            <a:ext cx="2230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971800" y="4057200"/>
            <a:ext cx="45720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A12DD-D583-4728-B831-DA86ACB04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520" y="15192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971800" y="1828440"/>
            <a:ext cx="4572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536120" indent="-2192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974960" indent="-21924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974960" indent="-21924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974960" indent="-21924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2860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552720"/>
            <a:ext cx="2895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Eras Bold IT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AF92D-2837-4398-ABFE-AF356AFF4A7B}" type="slidenum">
              <a:rPr b="0" lang="en-US" sz="1400" spc="-1" strike="noStrike">
                <a:solidFill>
                  <a:srgbClr val="ffffff"/>
                </a:solidFill>
                <a:latin typeface="Eras Bold IT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76520" y="15192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971800" y="1828440"/>
            <a:ext cx="4572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536120" indent="-2192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974960" indent="-21924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974960" indent="-21924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974960" indent="-21924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Eras Bold IT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47D8E-ADE3-4080-AF41-D5AFA777AAE7}" type="slidenum">
              <a:rPr b="0" lang="en-US" sz="1400" spc="-1" strike="noStrike">
                <a:solidFill>
                  <a:srgbClr val="ffffff"/>
                </a:solidFill>
                <a:latin typeface="Eras Bold IT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5.png"/><Relationship Id="rId3" Type="http://schemas.openxmlformats.org/officeDocument/2006/relationships/image" Target="../media/image9.gi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8"/>
          <p:cNvSpPr/>
          <p:nvPr/>
        </p:nvSpPr>
        <p:spPr>
          <a:xfrm>
            <a:off x="0" y="2749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Рисунок 1" descr=""/>
          <p:cNvPicPr/>
          <p:nvPr/>
        </p:nvPicPr>
        <p:blipFill>
          <a:blip r:embed="rId2"/>
          <a:srcRect l="8250" t="38840" r="7798" b="3632"/>
          <a:stretch/>
        </p:blipFill>
        <p:spPr>
          <a:xfrm>
            <a:off x="285840" y="2786040"/>
            <a:ext cx="4170240" cy="228132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9"/>
          <p:cNvSpPr/>
          <p:nvPr/>
        </p:nvSpPr>
        <p:spPr>
          <a:xfrm>
            <a:off x="4067280" y="487080"/>
            <a:ext cx="47340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Monotype Corsiva"/>
                <a:ea typeface="Times New Roman"/>
              </a:rPr>
              <a:t>Урок № 15</a:t>
            </a:r>
            <a:r>
              <a:rPr b="1" lang="en-US" sz="4000" spc="-1" strike="noStrike">
                <a:solidFill>
                  <a:srgbClr val="ff0000"/>
                </a:solidFill>
                <a:latin typeface="Monotype Corsiva"/>
                <a:ea typeface="Times New Roman"/>
              </a:rPr>
              <a:t>-1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  </a:t>
            </a:r>
            <a:r>
              <a:rPr b="1" i="1" lang="ru-RU" sz="48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Кочевники кубанских  степей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10" descr="paragraph"/>
          <p:cNvPicPr/>
          <p:nvPr/>
        </p:nvPicPr>
        <p:blipFill>
          <a:blip r:embed="rId3"/>
          <a:stretch/>
        </p:blipFill>
        <p:spPr>
          <a:xfrm>
            <a:off x="0" y="0"/>
            <a:ext cx="117792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Рисунок 1" descr=""/>
          <p:cNvPicPr/>
          <p:nvPr/>
        </p:nvPicPr>
        <p:blipFill>
          <a:blip r:embed="rId1"/>
          <a:srcRect l="8250" t="38840" r="7798" b="3632"/>
          <a:stretch/>
        </p:blipFill>
        <p:spPr>
          <a:xfrm>
            <a:off x="642960" y="1143000"/>
            <a:ext cx="8143920" cy="445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Заголовок 1" descr=""/>
          <p:cNvPicPr/>
          <p:nvPr/>
        </p:nvPicPr>
        <p:blipFill>
          <a:blip r:embed="rId1"/>
          <a:stretch/>
        </p:blipFill>
        <p:spPr>
          <a:xfrm>
            <a:off x="1979640" y="152280"/>
            <a:ext cx="5754600" cy="82872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7"/>
          <p:cNvSpPr/>
          <p:nvPr/>
        </p:nvSpPr>
        <p:spPr>
          <a:xfrm>
            <a:off x="1428840" y="1362600"/>
            <a:ext cx="6786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Звериный стиль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– условное общее  название стилизованных изображений  животны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Рисунок 3" descr=""/>
          <p:cNvPicPr/>
          <p:nvPr/>
        </p:nvPicPr>
        <p:blipFill>
          <a:blip r:embed="rId2"/>
          <a:srcRect l="48020" t="0" r="8776" b="63736"/>
          <a:stretch/>
        </p:blipFill>
        <p:spPr>
          <a:xfrm>
            <a:off x="2214720" y="3357720"/>
            <a:ext cx="4786200" cy="28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8288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aw and Order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380880" y="28954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r Subtitle Goes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 6" descr="law_and_order_trs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93" name="Rectangle 7"/>
          <p:cNvSpPr/>
          <p:nvPr/>
        </p:nvSpPr>
        <p:spPr>
          <a:xfrm>
            <a:off x="395280" y="-74160"/>
            <a:ext cx="8280360" cy="63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Задание №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ешить тес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(подчеркнуть правильный вариант ответа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 какого века началось применение железа в качестве основного материала для приготовления орудий труда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cc"/>
                </a:solidFill>
                <a:latin typeface="Times New Roman"/>
              </a:rPr>
              <a:t>а) с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VI </a:t>
            </a:r>
            <a:r>
              <a:rPr b="1" i="1" lang="ru-RU" sz="2000" spc="-1" strike="noStrike">
                <a:solidFill>
                  <a:srgbClr val="3333cc"/>
                </a:solidFill>
                <a:latin typeface="Times New Roman"/>
              </a:rPr>
              <a:t>века до н. э.              б) с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VIII</a:t>
            </a:r>
            <a:r>
              <a:rPr b="1" i="1" lang="ru-RU" sz="2000" spc="-1" strike="noStrike">
                <a:solidFill>
                  <a:srgbClr val="3333cc"/>
                </a:solidFill>
                <a:latin typeface="Times New Roman"/>
              </a:rPr>
              <a:t> века до н. э.         в) с Х века до н. э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нятие, которому соответствует определение: пропитывание тканей мёртвого человека веществами, препятствующими его разложению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cc"/>
                </a:solidFill>
                <a:latin typeface="Times New Roman"/>
              </a:rPr>
              <a:t>а) погребение               б) бальзамирование             в) травле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3. Как назывался способ восстановления железа из руды в раннем железном веке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cc"/>
                </a:solidFill>
                <a:latin typeface="Times New Roman"/>
              </a:rPr>
              <a:t>а) ковка                        б)  термический                    в) сыродутны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кифов характеризует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cc"/>
                </a:solidFill>
                <a:latin typeface="Times New Roman"/>
              </a:rPr>
              <a:t>а) оседлый образ жизни        б) «звериный стиль»         в) курганный обряд захороне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цени утверждение: раскопки скифских курганов свидетельствуют о диких нравах того времен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cc"/>
                </a:solidFill>
                <a:latin typeface="Times New Roman"/>
              </a:rPr>
              <a:t>а) да                    б)  нет</a:t>
            </a:r>
            <a:r>
              <a:rPr b="0" lang="ru-RU" sz="1800" spc="-1" strike="noStrike">
                <a:solidFill>
                  <a:srgbClr val="3333cc"/>
                </a:solidFill>
                <a:latin typeface="Times New Roman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Picture 8" descr="simbol040"/>
          <p:cNvPicPr/>
          <p:nvPr/>
        </p:nvPicPr>
        <p:blipFill>
          <a:blip r:embed="rId2"/>
          <a:stretch/>
        </p:blipFill>
        <p:spPr>
          <a:xfrm>
            <a:off x="7956720" y="5445000"/>
            <a:ext cx="9331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6"/>
          <p:cNvSpPr/>
          <p:nvPr/>
        </p:nvSpPr>
        <p:spPr>
          <a:xfrm>
            <a:off x="1187280" y="6840"/>
            <a:ext cx="72741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Задание №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оотнести предмет с названием кургана, при раскопках которого  он был обнаружен, обозначив  соответствующей цифро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Рисунок 1" descr=""/>
          <p:cNvPicPr/>
          <p:nvPr/>
        </p:nvPicPr>
        <p:blipFill>
          <a:blip r:embed="rId2"/>
          <a:srcRect l="4767" t="9081" r="3801" b="32107"/>
          <a:stretch/>
        </p:blipFill>
        <p:spPr>
          <a:xfrm>
            <a:off x="5605560" y="2708280"/>
            <a:ext cx="2114280" cy="1409760"/>
          </a:xfrm>
          <a:prstGeom prst="rect">
            <a:avLst/>
          </a:prstGeom>
          <a:ln w="0">
            <a:noFill/>
          </a:ln>
        </p:spPr>
      </p:pic>
      <p:pic>
        <p:nvPicPr>
          <p:cNvPr id="97" name="Рисунок 4" descr=""/>
          <p:cNvPicPr/>
          <p:nvPr/>
        </p:nvPicPr>
        <p:blipFill>
          <a:blip r:embed="rId3"/>
          <a:srcRect l="61677" t="29351" r="14640" b="50364"/>
          <a:stretch/>
        </p:blipFill>
        <p:spPr>
          <a:xfrm>
            <a:off x="1557360" y="2708280"/>
            <a:ext cx="1895400" cy="1409760"/>
          </a:xfrm>
          <a:prstGeom prst="rect">
            <a:avLst/>
          </a:prstGeom>
          <a:ln w="0">
            <a:noFill/>
          </a:ln>
        </p:spPr>
      </p:pic>
      <p:pic>
        <p:nvPicPr>
          <p:cNvPr id="98" name="Рисунок 7" descr=""/>
          <p:cNvPicPr/>
          <p:nvPr/>
        </p:nvPicPr>
        <p:blipFill>
          <a:blip r:embed="rId4"/>
          <a:srcRect l="59852" t="29223" r="0" b="4346"/>
          <a:stretch/>
        </p:blipFill>
        <p:spPr>
          <a:xfrm>
            <a:off x="3924360" y="2708280"/>
            <a:ext cx="1171440" cy="155268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10"/>
          <p:cNvSpPr/>
          <p:nvPr/>
        </p:nvSpPr>
        <p:spPr>
          <a:xfrm>
            <a:off x="1500120" y="3990960"/>
            <a:ext cx="324000" cy="270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11"/>
          <p:cNvSpPr/>
          <p:nvPr/>
        </p:nvSpPr>
        <p:spPr>
          <a:xfrm>
            <a:off x="3747960" y="3990960"/>
            <a:ext cx="324000" cy="270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12"/>
          <p:cNvSpPr/>
          <p:nvPr/>
        </p:nvSpPr>
        <p:spPr>
          <a:xfrm>
            <a:off x="5557680" y="3990960"/>
            <a:ext cx="324000" cy="270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13"/>
          <p:cNvSpPr/>
          <p:nvPr/>
        </p:nvSpPr>
        <p:spPr>
          <a:xfrm>
            <a:off x="1547640" y="4873320"/>
            <a:ext cx="60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cc"/>
                </a:solidFill>
                <a:latin typeface="Arial"/>
                <a:ea typeface="Arial"/>
              </a:rPr>
              <a:t>Уляпский курган №_____________ Костромской курган №_________ Келермесский курган № _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4" descr="law_and_order_trs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104" name="Rectangle 5"/>
          <p:cNvSpPr/>
          <p:nvPr/>
        </p:nvSpPr>
        <p:spPr>
          <a:xfrm>
            <a:off x="1770120" y="258840"/>
            <a:ext cx="547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Задание №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Угадай племя по краткому описанию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250920" y="1050480"/>
            <a:ext cx="889308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1. Ираноязычные  кочевые племена, населявшие в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VIII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VII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вв до н. э. степи Северного Причерноморья. Однако здесь они пробыли недолго и были вытеснены другими  более многочисленными и смелыми ираноязычными племенами. Под влиянием этих племён местное население кубани  переняло наездничество, усвоили основы коневодства, были вовлечены в походную воинскую жизнь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_________________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2. Эти племена населяли кубанские степи во Эти племена населяли кубанские степи во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Iv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в до н. э. –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в. н. э. Исторические источники свидетельствуют о наличии у этих племён скотоводческого и земледельческого хозяйства. Общественное устройство – военная демократия. Наряду с войной, скотоводством и земледелием  данные племена занимались торговлей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__________________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3. Ираноязычные кочевые племена Северо –Западного Кавказа. Большинство этих племён были кочевыми скотоводами. Они облагали данью окрестные землевладельческие племена. Было развито кожевенное ремесло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icture 7" descr="simbol040"/>
          <p:cNvPicPr/>
          <p:nvPr/>
        </p:nvPicPr>
        <p:blipFill>
          <a:blip r:embed="rId2"/>
          <a:stretch/>
        </p:blipFill>
        <p:spPr>
          <a:xfrm>
            <a:off x="8210520" y="4365720"/>
            <a:ext cx="93348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5"/>
          <p:cNvSpPr/>
          <p:nvPr/>
        </p:nvSpPr>
        <p:spPr>
          <a:xfrm>
            <a:off x="0" y="2771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icture 4" descr="20"/>
          <p:cNvPicPr/>
          <p:nvPr/>
        </p:nvPicPr>
        <p:blipFill>
          <a:blip r:embed="rId1"/>
          <a:stretch/>
        </p:blipFill>
        <p:spPr>
          <a:xfrm>
            <a:off x="4214880" y="4357800"/>
            <a:ext cx="1558800" cy="202716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6"/>
          <p:cNvSpPr/>
          <p:nvPr/>
        </p:nvSpPr>
        <p:spPr>
          <a:xfrm>
            <a:off x="1187280" y="231120"/>
            <a:ext cx="7632720" cy="42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Задание №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рочитать рассуждения античных автор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 скифах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 учебник стр. 52 - 53) и ответить н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вопросы от ПОЧЕМУЧКИ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0000"/>
                </a:solidFill>
                <a:latin typeface="Arial"/>
                <a:ea typeface="Times New Roman"/>
              </a:rPr>
              <a:t>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-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место обитания скифов Гиппократ именует  «Скифская    пустыня»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- скифы не признают ничего выше дружбы?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4" descr="law_and_order_trs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111" name="Rectangle 6"/>
          <p:cNvSpPr/>
          <p:nvPr/>
        </p:nvSpPr>
        <p:spPr>
          <a:xfrm>
            <a:off x="3214440" y="193320"/>
            <a:ext cx="3399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Задание №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Разгадать кроссвор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Picture 5" descr=""/>
          <p:cNvPicPr/>
          <p:nvPr/>
        </p:nvPicPr>
        <p:blipFill>
          <a:blip r:embed="rId2"/>
          <a:stretch/>
        </p:blipFill>
        <p:spPr>
          <a:xfrm>
            <a:off x="5292720" y="1628640"/>
            <a:ext cx="3303720" cy="388800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7"/>
          <p:cNvSpPr/>
          <p:nvPr/>
        </p:nvSpPr>
        <p:spPr>
          <a:xfrm>
            <a:off x="395280" y="324720"/>
            <a:ext cx="4753080" cy="588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Многочисленные племена степе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черноморья, обладател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«звериного стиля» и курганног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бряда захоронения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. Ираноязычные кочевник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3. Прикубанские сарматы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4. Кочевые племена, у которых было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развито кожевенное ремесло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Picture 8" descr="simbol040"/>
          <p:cNvPicPr/>
          <p:nvPr/>
        </p:nvPicPr>
        <p:blipFill>
          <a:blip r:embed="rId3"/>
          <a:stretch/>
        </p:blipFill>
        <p:spPr>
          <a:xfrm>
            <a:off x="4716360" y="5300640"/>
            <a:ext cx="93348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4"/>
          <p:cNvSpPr/>
          <p:nvPr/>
        </p:nvSpPr>
        <p:spPr>
          <a:xfrm>
            <a:off x="1000080" y="1163160"/>
            <a:ext cx="75009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Задание № 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рочитать рассказ археолог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«Курган в степи»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(учебник стр. 54 -56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cc"/>
                </a:solidFill>
                <a:latin typeface="Arial"/>
                <a:ea typeface="Arial"/>
              </a:rPr>
              <a:t>1. Дать письменный ответ  на </a:t>
            </a:r>
            <a:r>
              <a:rPr b="1" i="1" lang="ru-RU" sz="28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1" i="1" lang="ru-RU" sz="2800" spc="-1" strike="noStrike">
                <a:solidFill>
                  <a:srgbClr val="3333cc"/>
                </a:solidFill>
                <a:latin typeface="Arial"/>
                <a:ea typeface="Arial"/>
              </a:rPr>
              <a:t>вопрос № 2 (стр. 56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cc"/>
                </a:solidFill>
                <a:latin typeface="Arial"/>
                <a:ea typeface="Arial"/>
              </a:rPr>
              <a:t>2. Выполнить задание № 3 (стр .56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3T13:32:43Z</dcterms:created>
  <dc:creator>Аня</dc:creator>
  <dc:description/>
  <dc:language>en-US</dc:language>
  <cp:lastModifiedBy>таня</cp:lastModifiedBy>
  <dcterms:modified xsi:type="dcterms:W3CDTF">2010-12-16T20:03:48Z</dcterms:modified>
  <cp:revision>8</cp:revision>
  <dc:subject/>
  <dc:title>Слайд 1</dc:title>
</cp:coreProperties>
</file>