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100-5492-4E91-ADF7-96406522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850-A2D8-488D-9D1A-7A66D5B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C47-2955-46B8-94B8-9F79EE78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B25-1C65-407A-A9D5-9296E84C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FB9-2B4E-41AE-860C-8697FF0A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1DE-A7BD-4870-B1E8-AA46599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B55-2264-42D6-8E7C-C7EC8751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76A-40C3-4170-A356-ED605360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277-A3EB-4586-8C09-6B40C37A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DCC-A41B-4CB6-A997-0B1D721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82E-701E-45B4-A182-11E05B9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4D5-625B-4FDD-B8CE-8E3388B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526A-6D77-45F1-9939-16B820394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Кочевые племена кубанских степей. Территория расселения, особенности быта и занятий. Киммерийцы. Скифы. Сармат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143160" y="5572080"/>
            <a:ext cx="21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к №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7680" y="285840"/>
            <a:ext cx="62863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нние киммерийцы вели оседлый образ жизни и занимались как земледелием, так и скотоводством. В начале железного века они перешли к кочевому образу жизни, причиной чего послужило изменение климата, который стал сухим и жарким. Ранние киммерийцы жили в поселениях, расположенных вблизи воды, в больших полуземлянках площадью около 80 м². Покойников обычно хоронили в более древних, и реже — в специально насыпных курганах. Железо входило в обиход киммерийцев медленно, в первую очередь для изготовления мечей и кинжалов. Участвовали в обмене с оседлыми земледельцами, иногда совершая военные набе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31431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Общественный ст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переходом к кочевому скотоводству у киммерийцев усиливается разложение общинного строя, возникает частная собственность, богатства концентрируются в руках у знатной верхушки. Социальное и имущественное разделение общества заметно по погребениям. Выделяется конная воинская аристократия. Общественный строй киммерийцев представлял собой, вероятнее всего, военную демократию. Киммерийские племена не были целостным объединением, а состояли из временных союзов и разрозненных племён со своими вожд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14560" y="571680"/>
            <a:ext cx="442908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ойны киммерийцев с соседя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7856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ммерийцы вторгались из Северного Причерноморья через Кавказ в Закавказье, в Малую и Переднюю Азию, нападали на древневосточные государства Урарту, Ассирию, Лидию, доходили до границ Египта. Почти одновременно с киммерийцами стали совершать набеги на Ассирию и скифы, которые иногда действовали вместе с 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7120" y="0"/>
            <a:ext cx="4143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71600" y="0"/>
            <a:ext cx="59720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ейские пророки описывали нашествия этих северных племен как страшные бедствия, как проявление божьего гнева: «Вот я приведу на вас, дом Йзраилев, народ издалека, говорит господь, народ сильный, народ древний, народ, языка которого ты не знаешь и не будешь понимать, что он говорит. Колчан его, как открытый гроб. Все они люди храбрые. И съедят они жатву твою и хлеб твой, съедят сыновей твоих и дочерей твоих, съедят овец твоих и волов твоих, съедят виноград твой и смоквы твои; разрушат мечом укрепленные города твои, на которые ты надеешься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3429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71840" y="857160"/>
            <a:ext cx="6114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IX веке до н. э. в Северном Причерноморье появляются кочевники, археологическая культура которых известна по курганным могильникам, называемых некоторыми исследователями "киммерийскими "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натали\Рабочий стол\2147511888.gif"/>
          <p:cNvPicPr/>
          <p:nvPr/>
        </p:nvPicPr>
        <p:blipFill>
          <a:blip r:embed="rId1"/>
          <a:stretch/>
        </p:blipFill>
        <p:spPr>
          <a:xfrm>
            <a:off x="139680" y="1571760"/>
            <a:ext cx="23144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85520" y="285480"/>
            <a:ext cx="761508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м древним известным народом, населявшим степи Восточной Европы, примыкавшие с севера к берегам Черного моря, были киммерийцы. Они обитали здесь на рубеже II и I тыс. до н. э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8840" y="1981080"/>
            <a:ext cx="5786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Происхожд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4214880"/>
            <a:ext cx="84009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х происхождение неясно, но они, как полагают, были индоевропейским народом. Их язык, как считают, имел иранское или фракийское происхождение, или, по крайней мере, правящий класс киммерийцев имел иранское происхожд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00120" y="1147680"/>
            <a:ext cx="5500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572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иммерийцы -- по -гречески "kimmerioi“Киммерийцы - древнейший народ из числа известных по своему имени народов, обитавших в Восточной Евро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71960" y="1599840"/>
            <a:ext cx="46432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иммерийцы были древними кочевниками, которые, согласно Геродоту, первоначально населяли область к северу от Кавказа и Черного моря, на территории, которая сейчас входит в составы России и Украины, в 8-ом и 7-ое столетиях до н.э.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781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28560" y="285840"/>
            <a:ext cx="6715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менитый греческий историк и географ Геродот, прозванный «отцом истории», живший в V в. до н.э. и посетивший Северное Причерноморье, сообщает, что некогда эту страну занимали киммерийцы. Правда, к тому времени, когда жил Геродот, никаких киммерийцев уже не существовало, но воспоминание о них сохранилось в памяти населения, от которого Геродот получал сведения, и отразилось в названиях некоторых мест в Северном Причерноморье. Так, Керченский пролив назывался у греков Боспором Киммерийским (по-гречески «Боспор» или «Босфор» — «переправа быка»); на его берегах находились поселения, называвшиеся Киммерик и Киммерий; здесь существовали какие-то Киммерийские стены. Эти названия указывают как будто на то, что основными районами расселения киммерийцев были восточный Крым и северный Кавказ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2786040" cy="33433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482760" y="47149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род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42840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еродот рассказывает, что киммерийцы, вытесненные из Северного Причерноморья скифами, переправились в Малую Азию. При этом, говорит Геродот, киммерийские цари не захотели покидать родную землю, а предпочли умереть на ней. Они разделились на две равные партии и вступили друг с другом в битву. Когда цари перебили Друг друга, киммерийцы похоронили их всех в большой могиле у реки Тирас (Днестр) и после этого удалились. Могила киммерийских царей якобы была видна у Днестра еще во времена Геродота. Судя по большому числу царей, речь у Геродота идет не о царях, а о вождях киммерийцев, о представителях родовой и племенной знати; настоящей царской власти у киммерийцев еще не был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ультур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иммерийце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хеологически культура киммерийцев изучена еще очень плохо. Им приписывают различные памятники, находимые в разных районах Северного Причерноморья и относящиеся к переходной эпохе от бронзового к железному ве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6563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иммерийские изваяния из Тирита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214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иритак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греческое поселение, возникшее около середины VI века до н.э. в 11 км южнее нынешней Керчи, на месте, обжитом еще в период поздней бронзы. 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йденные здесь каменные изваяния человеческих фигур (мужской и женской) представляют, по-видимому, божества киммерийского време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500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3:22:06Z</dcterms:created>
  <dc:creator>натали</dc:creator>
  <dc:description/>
  <dc:language>en-US</dc:language>
  <cp:lastModifiedBy>Таня</cp:lastModifiedBy>
  <dcterms:modified xsi:type="dcterms:W3CDTF">2010-11-29T18:37:22Z</dcterms:modified>
  <cp:revision>22</cp:revision>
  <dc:subject/>
  <dc:title>Слайд 1</dc:title>
</cp:coreProperties>
</file>