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7AE-03A4-4015-B4EE-29C29159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55B-DC75-42B7-883C-1E4F03D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B84-2734-4BB6-B44A-56F469DD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61D-C8DD-490A-937E-8E1AA821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ABE-60AA-49DB-A11D-B8E5A52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892-E59D-4774-A776-8567D9AC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05B-E191-4778-930F-1EE57517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76D-A708-4351-BA42-3F7754C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C27-A2A4-47EB-8CFE-D33D4FB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0E0-8740-45F7-B6B7-67C593D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360-0336-43DB-8290-8E614D3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408-4186-4862-9941-DE71FAE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A39-4806-4C29-8F2E-7B20A55F71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21965_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4038480" cy="66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 местах, где растет камыш, тростник и другие водные растения лед более тонкий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д в нижнем бьефе плотины, где даже в сильные морозы кратковременные попуски воды из водохранилища способны источить лед и образовать в нем опасные промоины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температура воздуха выше 0 градусов держится более трех дней, то прочность льда снижается на 25%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9"/>
          <p:cNvPicPr/>
          <p:nvPr/>
        </p:nvPicPr>
        <p:blipFill>
          <a:blip r:embed="rId1"/>
          <a:stretch/>
        </p:blipFill>
        <p:spPr>
          <a:xfrm>
            <a:off x="4859280" y="260280"/>
            <a:ext cx="3745080" cy="299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1223844"/>
          <p:cNvPicPr/>
          <p:nvPr/>
        </p:nvPicPr>
        <p:blipFill>
          <a:blip r:embed="rId2"/>
          <a:stretch/>
        </p:blipFill>
        <p:spPr>
          <a:xfrm>
            <a:off x="4859280" y="3484440"/>
            <a:ext cx="3765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зопаснее всего переходить по прозрачному с зеленоватым или синеватым оттенком льду при его толщине не менее 7 см. Прежде чем двигаться по льду, надо убедиться в его прочности. Для этого надо воспользоваться пешней или твердой палкой. При движении по замерзшему водоему шестом (палкой) ударяют по льду впереди и по обе стороны от себя по несколько раз в одно и тоже место. Если после 2-3 ударов вода не показалась, значит лед надежен. Если же лед пробивается и на нем появляется вода, нужно немедленно остановиться и повернуть обратно, но не торопясь и стараясь идти, не отрывая ступни ото льда (скользящим шагом). При движении обратно продолжать проверять лед шест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14372"/>
          <p:cNvPicPr/>
          <p:nvPr/>
        </p:nvPicPr>
        <p:blipFill>
          <a:blip r:embed="rId1"/>
          <a:stretch/>
        </p:blipFill>
        <p:spPr>
          <a:xfrm>
            <a:off x="2627280" y="3732120"/>
            <a:ext cx="38163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тегорически запрещается: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ытывать прочность льда ударом ноги по льду - в этом случае можно сразу провалиться в воду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разрешается переходить водоем в одиночку, т.к. в случае провала под лед, помощи ждать не от кого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акже нежелательно ходить по льду в темное время сут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тегорически запрещается катание на коньках, на санках, игра в хоккей на тонком неокрепшем льду. Подготовка льда для катания на коньках должна быть проведена очень тщательно. Толщина льда должна быть не менее 12 см, а при массовом катании - не менее 25 с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рекомендуется кататься на замерзшем льду одно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а поведения на льду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 в коем случае нельзя выходить на лед в темное время суток и при плохой видимости (туман, снегопад, дожд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 переходе через реку пользуйтесь ледовыми переправ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i"/>
          <p:cNvPicPr/>
          <p:nvPr/>
        </p:nvPicPr>
        <p:blipFill>
          <a:blip r:embed="rId1"/>
          <a:stretch/>
        </p:blipFill>
        <p:spPr>
          <a:xfrm>
            <a:off x="2717640" y="3789360"/>
            <a:ext cx="34909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038480" cy="64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льзя проверять прочность льда ударом ноги. Если после первого сильного удара поленом или лыжной палкой покажется хоть немного воды, - это означает, что лед тонкий, по нему ходить нельзя. В этом случае следует немедленно отойти по своему же следу к берегу, скользящими шагами, не отрывая ног ото льда и расставив их на ширину плеч, чтобы нагрузка распределялась на большую площадь. Точно так же поступают при предостерегающем потрескивании льда и образовании в нем трещин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7543"/>
          <p:cNvPicPr/>
          <p:nvPr/>
        </p:nvPicPr>
        <p:blipFill>
          <a:blip r:embed="rId1"/>
          <a:stretch/>
        </p:blipFill>
        <p:spPr>
          <a:xfrm>
            <a:off x="4500720" y="1628640"/>
            <a:ext cx="4068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 вынужденном переходе водоема безопаснее всего придерживаться проторенных троп или идти по уже проложенной лыжне. Но если их нет, надо перед тем, как спуститься на лед, очень внимательно осмотреться и наметить предстоящий маршру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у"/>
          <p:cNvPicPr/>
          <p:nvPr/>
        </p:nvPicPr>
        <p:blipFill>
          <a:blip r:embed="rId1"/>
          <a:stretch/>
        </p:blipFill>
        <p:spPr>
          <a:xfrm>
            <a:off x="2050920" y="2852640"/>
            <a:ext cx="498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мерзшую реку (озеро) лучше перейти на лыжах, при этом: крепления лыж расстегните, чтобы при необходимости быстро их сбросить; лыжные палки держите в руках, не накидывая петли на кисти рук, чтобы в случае опасности сразу их отброс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есть рюкзак, повесьте его на одно плечо это  позволит легко освободиться от груза в случае, если лед под вами провали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6866"/>
          <p:cNvPicPr/>
          <p:nvPr/>
        </p:nvPicPr>
        <p:blipFill>
          <a:blip r:embed="rId1"/>
          <a:stretch/>
        </p:blipFill>
        <p:spPr>
          <a:xfrm>
            <a:off x="2195640" y="3459240"/>
            <a:ext cx="424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замерзший водоем необходимо брать с собой прочную веревку длиной 20 – 25 метров с большой глухой петлей на конце и грузом. Груз поможет забросить веревку к провалившемуся в воду товарищу, петля нужна для того, чтобы пострадавший мог надежнее держаться, продев ее под мышк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отпускайте детей на лед (на рыбалку, катание на лыжах и коньках) без присмотра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16"/>
          <p:cNvPicPr/>
          <p:nvPr/>
        </p:nvPicPr>
        <p:blipFill>
          <a:blip r:embed="rId1"/>
          <a:stretch/>
        </p:blipFill>
        <p:spPr>
          <a:xfrm>
            <a:off x="4811760" y="1268280"/>
            <a:ext cx="3840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41716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редко по берегам водоемов или вблизи от них расположены промышленные предприятия. Некоторые из них спускают в водоемы отработанные теплые воды, которые на большом расстоянии во всех направлениях подмывают лед. Кататься на коньках, санках и лыжах и даже просто ходить по льду в таких местах очень опасно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2860"/>
          <p:cNvPicPr/>
          <p:nvPr/>
        </p:nvPicPr>
        <p:blipFill>
          <a:blip r:embed="rId1"/>
          <a:stretch/>
        </p:blipFill>
        <p:spPr>
          <a:xfrm>
            <a:off x="5435640" y="33192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20510"/>
          <p:cNvPicPr/>
          <p:nvPr/>
        </p:nvPicPr>
        <p:blipFill>
          <a:blip r:embed="rId2"/>
          <a:stretch/>
        </p:blipFill>
        <p:spPr>
          <a:xfrm>
            <a:off x="550872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608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малую опасность для пешеходов, лыжников представляют лунки величиной до 1 м в окружности, которые вырубают рыболовы для подледного лова рыбы. Как правило, эти лунки не ограждаются. За ночь отверстие во льду затянет тонким льдом, запорошит снегом и сразу его трудно заметить. Поэтому прежде чем кататься на льду, необходимо внимательно осмотреть поверхность водоема. Если на заснеженной поверхности водоема вы обнаружили чистое, не запорошенное снеговое место, - значит здесь полынья или промоина, не успевшая покрыться прочным льдом, если на ровном снеговом покрове темное пятно, - значит под снегом неокрепший ле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9" descr="1375"/>
          <p:cNvPicPr/>
          <p:nvPr/>
        </p:nvPicPr>
        <p:blipFill>
          <a:blip r:embed="rId1"/>
          <a:stretch/>
        </p:blipFill>
        <p:spPr>
          <a:xfrm>
            <a:off x="4859280" y="1125360"/>
            <a:ext cx="39816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5"/>
          <p:cNvSpPr txBox="1"/>
          <p:nvPr/>
        </p:nvSpPr>
        <p:spPr>
          <a:xfrm>
            <a:off x="1042920" y="836640"/>
            <a:ext cx="748836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ПРАВИЛА ПО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И МЕРЫ БЕЗОПАС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НА В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И НА ЛЬД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В ОСЕННЕ-ЗИМНЕ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d8a"/>
                </a:solidFill>
                <a:latin typeface="Times New Roman"/>
              </a:rPr>
              <a:t>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d8a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12"/>
          <p:cNvPicPr/>
          <p:nvPr/>
        </p:nvPicPr>
        <p:blipFill>
          <a:blip r:embed="rId1"/>
          <a:stretch/>
        </p:blipFill>
        <p:spPr>
          <a:xfrm>
            <a:off x="2843280" y="33577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чень опасно в незнакомом месте скатываться на лед с обрывистых берегов. Даже заметив впереди себя прорубь, лунку или пролом во льду, трудно затормозить или отвернуть в сторону. Поэтому для катания на коньках, лыжах и санках надо выбирать места с прочным ледяным покровом, обследованные взрослыми. Необходимо соблюдать особую осторожность на льду, если наступают в зимние дни оттепели. Там, где еще несколько дней назад без опаски можно было кататься на льду, в дни оттепели это делать очень опас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делать, если вы провалились в холодную воду: 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паникуйте, не делайте резких движений, стабилизируйте дыхание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;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сли быстро выбраться из воды не удалос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едует помнить, что удерживая себя на поверхности воды, необходимо стараться затрачивать на это минимум физических усилий. Одна из причин быстрого понижения температуры тела - перемещение прилежащего к телу подогретого им слоя воды и замена его новым, холодным. Кроме того, при движениях нарушается дополнительная изоляция, создаваемая водой, пропитавшей одежд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4537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все же несчастье случилось, вы не заметили проруби, лунки или попали на тонкий лед, прежде всего не поддавайтесь панике, преодолейте в себе страх перед водной стихией. Обычно люди зимой тепло одеты, и в воде одежда быстро намокает и тянет провалившегося на дно. Как это ни трудно, первое, что должен сделать пострадавший - попытаться освободиться от верхней одежды и обуви, а затем самостоятельно попробовать выбраться из провала на твердый лед. При этом надо действовать быстро и решительно, стараясь сохранить спокой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10"/>
          <p:cNvPicPr/>
          <p:nvPr/>
        </p:nvPicPr>
        <p:blipFill>
          <a:blip r:embed="rId1"/>
          <a:stretch/>
        </p:blipFill>
        <p:spPr>
          <a:xfrm>
            <a:off x="4932360" y="170028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Если нужна Ваша помощь: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34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оружитесь любой длинной палкой, доскою, шестом или веревкою. Можно связать воедино шарфы, ремни или одеж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едует ползком, широко расставляя при этом руки и ноги и толкая перед собою спасательные средства, осторожно двигаться по направлению к полын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неизвестное фото 011"/>
          <p:cNvPicPr/>
          <p:nvPr/>
        </p:nvPicPr>
        <p:blipFill>
          <a:blip r:embed="rId1"/>
          <a:stretch/>
        </p:blipFill>
        <p:spPr>
          <a:xfrm>
            <a:off x="2340000" y="3573360"/>
            <a:ext cx="4714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ановитесь от находящегося в воде человека в нескольких метрах,  бросьте ему веревку, край одежды, подайте палку или шес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давать  пострадавшему руку небезопасно, так как, приближаясь к полынье, вы увеличите нагрузку на лед и не только не поможете, но и сами рискуете провал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з резких движений отползайте в ту сторону, откуда пришли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100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экстренных случаях для оказания помощи утопающему могут быть использованы подручные средства: бревна, доски, шесты, щиты, веревки, лыжи, санки, брючные ремни, шарфы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6" descr="неизвестное фото 010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огревание пострадавшего.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традавшего надо укрыть в месте, защищенном от ветра, хорошо укутать в любую имеющуюся одежду, одеял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он в сознании, напоить горячим чаем, кофе. Очень эффективны грелки, бутылки, фляги, заполненные горячей водой, или камни, разогретые в пламени костра и завернутые в ткань, их прикладывают к боковым поверхностям грудной клетки, к голове, к паховой области, под мыш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 отправились на зимнюю рыбалку, необходимо соблюдать  следующие равила: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 хорошо знать водоем, избранный для рыбалки, для того, чтобы помнить, где на нем глубина не выше роста человека или где с глубокого места можно быстро выйти на отмель, идущую к берег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 знать об условиях образования и свойствах льда в различные периоды зимы, различать приметы опасного льда, знать меры предосторожности и постоянно их соблюдать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пределите с берега маршрут движен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40388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орожно спускайтесь с берега: лед может неплотно соединяться с сушей; могут быть трещины; подо льдом может быть возду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выходите на темные участки льда - они быстрее прогреваются на солнце и, естественно, быстрее тают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picture31465242"/>
          <p:cNvPicPr/>
          <p:nvPr/>
        </p:nvPicPr>
        <p:blipFill>
          <a:blip r:embed="rId1"/>
          <a:stretch/>
        </p:blipFill>
        <p:spPr>
          <a:xfrm>
            <a:off x="4716360" y="1557360"/>
            <a:ext cx="41324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наступлением первых заморозков, когда вода в реках, озерах, прудах и других водоемах покрывается льдом, начинается период ледостава. Нельзя забывать об опасности, которую таят в себе только что замерзшие водоемы. Первый лед только на вид кажется прочным, а на самом деле он тонкий, слабый и не выдерживает тяжести не только взрослого человека, но и ребенка. Поэтому не торопитесь выходить на тонкий лед водоемов. Необходимо подождать, когда лед под воздействием мороза станет толще и прочнее. Несоблюдение этого совета может привести к провалу на льду. К сожалению, помощь попавшим в беду на воде приходит иногда слишком поздно и происшествие заканчивается трагически. Чтобы этого не случилось, необходимо помнить, что выходить на осенний лед можно только в крайнем случае и с максимальной осторожно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Рисунок 2" descr="http://www.serpuhov.ru/spaw/images/index/led_nara.jpg"/>
          <p:cNvPicPr/>
          <p:nvPr/>
        </p:nvPicPr>
        <p:blipFill>
          <a:blip r:embed="rId1"/>
          <a:stretch/>
        </p:blipFill>
        <p:spPr>
          <a:xfrm>
            <a:off x="2627280" y="3716280"/>
            <a:ext cx="42483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вы идете группой, то расстояние между людьми  должно быть не меньше 5 мет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юкзак повесьте на одно плечо, а еще лучше - волоките на веревке в 2-3 метрах сзад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вод"/>
          <p:cNvPicPr/>
          <p:nvPr/>
        </p:nvPicPr>
        <p:blipFill>
          <a:blip r:embed="rId1"/>
          <a:stretch/>
        </p:blipFill>
        <p:spPr>
          <a:xfrm>
            <a:off x="4573440" y="1773360"/>
            <a:ext cx="43196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подходите к другим рыболовам ближе, чем на 3 метр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приближайтесь к тем местам, где во льду имеются вмерзшие коряги, водоросли, воздушные пузыри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ходите рядом с трещиной или по участку льда, отделенному от основного массива несколькими трещинами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6"/>
          <p:cNvPicPr/>
          <p:nvPr/>
        </p:nvPicPr>
        <p:blipFill>
          <a:blip r:embed="rId1"/>
          <a:stretch/>
        </p:blipFill>
        <p:spPr>
          <a:xfrm>
            <a:off x="5076720" y="579600"/>
            <a:ext cx="3527640" cy="264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4054"/>
          <p:cNvPicPr/>
          <p:nvPr/>
        </p:nvPicPr>
        <p:blipFill>
          <a:blip r:embed="rId2"/>
          <a:stretch/>
        </p:blipFill>
        <p:spPr>
          <a:xfrm>
            <a:off x="5076720" y="3657600"/>
            <a:ext cx="352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075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удьте осторожны и помните: строгое выполнение правил поведения и мер безопасности на льду сохранит вашу жиз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3089"/>
          <p:cNvPicPr/>
          <p:nvPr/>
        </p:nvPicPr>
        <p:blipFill>
          <a:blip r:embed="rId1"/>
          <a:stretch/>
        </p:blipFill>
        <p:spPr>
          <a:xfrm>
            <a:off x="2916360" y="2781360"/>
            <a:ext cx="3671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 всех случаях, прежде чем сойти с берега на лед, необходимо внимательно осмотреться, наметить маршрут движения, выбирая безопасные места. Следует опасаться мест, где лед запорошен снегом: под снегом лед нарастает медленнее. Иногда случается, что по всему водоему толщина открытого льда - 10 см, а под снегом всего 3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5"/>
          <p:cNvPicPr/>
          <p:nvPr/>
        </p:nvPicPr>
        <p:blipFill>
          <a:blip r:embed="rId1"/>
          <a:stretch/>
        </p:blipFill>
        <p:spPr>
          <a:xfrm>
            <a:off x="4572000" y="907920"/>
            <a:ext cx="42386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о необходимо знат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зопасным для человека считается лед толщиною не менее 10 сантиметров в пресной воде и 15 сантиметров в соле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чность льда можно определить визуально: лед голубого цвета – прочный, белого – прочность его в 2 раза меньше. Серый, матово-белый или с желтоватым оттенком лед обычно ноздреватый и пористый ненадежен. Такой лед обрушивается без предупреждающего потрески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6"/>
          <p:cNvSpPr txBox="1"/>
          <p:nvPr/>
        </p:nvSpPr>
        <p:spPr>
          <a:xfrm>
            <a:off x="1547640" y="1557360"/>
            <a:ext cx="5688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НЕОБХОДИМА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ТОЛЩИНА ЛЬД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диночный пешеход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диночный пешеход с грузом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7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4"/>
          <p:cNvPicPr/>
          <p:nvPr/>
        </p:nvPicPr>
        <p:blipFill>
          <a:blip r:embed="rId1"/>
          <a:stretch/>
        </p:blipFill>
        <p:spPr>
          <a:xfrm>
            <a:off x="2771640" y="19162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руппа людей (расстояние между людьми не менее 6м)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менее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-9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 (без пассажиров)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менее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0-60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олее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0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5" descr="13"/>
          <p:cNvPicPr/>
          <p:nvPr/>
        </p:nvPicPr>
        <p:blipFill>
          <a:blip r:embed="rId1"/>
          <a:stretch/>
        </p:blipFill>
        <p:spPr>
          <a:xfrm>
            <a:off x="4896000" y="3500280"/>
            <a:ext cx="3563640" cy="27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7543"/>
          <p:cNvPicPr/>
          <p:nvPr/>
        </p:nvPicPr>
        <p:blipFill>
          <a:blip r:embed="rId2"/>
          <a:stretch/>
        </p:blipFill>
        <p:spPr>
          <a:xfrm>
            <a:off x="4859280" y="485640"/>
            <a:ext cx="36003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21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пасно ходить по льду, покрытому снегом (снег, выпавший на только что образовавшийся лед, помимо того, что маскирует полыньи, замедляет рост ледяного покрова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д более тонок на течении, особенно быстром, на глубоких и открытых для ветра местах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д тенистым и торфяным дном;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 болотистых берегов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естах выхода подводных ключей;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д мостами; 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узких протока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близи мест сброса в водоемы теплых и горячих вод промышленных и коммунальных предприят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17007"/>
          <p:cNvPicPr/>
          <p:nvPr/>
        </p:nvPicPr>
        <p:blipFill>
          <a:blip r:embed="rId1"/>
          <a:stretch/>
        </p:blipFill>
        <p:spPr>
          <a:xfrm>
            <a:off x="4859280" y="333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313"/>
          <p:cNvPicPr/>
          <p:nvPr/>
        </p:nvPicPr>
        <p:blipFill>
          <a:blip r:embed="rId2"/>
          <a:stretch/>
        </p:blipFill>
        <p:spPr>
          <a:xfrm>
            <a:off x="6864480" y="333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5158"/>
          <p:cNvPicPr/>
          <p:nvPr/>
        </p:nvPicPr>
        <p:blipFill>
          <a:blip r:embed="rId3"/>
          <a:stretch/>
        </p:blipFill>
        <p:spPr>
          <a:xfrm>
            <a:off x="4859280" y="2421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981"/>
          <p:cNvPicPr/>
          <p:nvPr/>
        </p:nvPicPr>
        <p:blipFill>
          <a:blip r:embed="rId4"/>
          <a:stretch/>
        </p:blipFill>
        <p:spPr>
          <a:xfrm>
            <a:off x="6875640" y="2436840"/>
            <a:ext cx="1800000" cy="185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17"/>
          <p:cNvPicPr/>
          <p:nvPr/>
        </p:nvPicPr>
        <p:blipFill>
          <a:blip r:embed="rId5"/>
          <a:stretch/>
        </p:blipFill>
        <p:spPr>
          <a:xfrm>
            <a:off x="5508720" y="4508640"/>
            <a:ext cx="28083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18:26Z</dcterms:created>
  <dc:creator>MICHAEL</dc:creator>
  <dc:description/>
  <dc:language>en-US</dc:language>
  <cp:lastModifiedBy>Zverdvd.org</cp:lastModifiedBy>
  <dcterms:modified xsi:type="dcterms:W3CDTF">2019-11-27T06:19:23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160000000000010243100207f6000400038000</vt:lpwstr>
  </property>
</Properties>
</file>